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A83-00F5-43C8-AFE2-6D5646A2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71A-4936-4384-A649-1104C1A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EE6-E293-490C-B71C-141BC2DD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6FA-502E-48CB-94A1-DB9CE3CC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19C-8CB0-48D7-B66F-CCA24744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C408-8D70-4BB9-BC8C-D99C7F5D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7A8-8297-4296-8BE2-AEE01B3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2F6-060F-4DD6-B309-A249C44C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71A-796A-4CD1-8A60-A6EBD6C5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372-09D6-4766-B956-2D0729C3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C75-DBB4-48B9-AB8A-FF4F9EB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FC3-675E-4A6A-AEF7-6C1DE97F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251A-CA75-49C2-8E4B-8EF37C8DB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sabes de Méxic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80880" y="1397160"/>
          <a:ext cx="8382240" cy="4886280"/>
        </p:xfrm>
        <a:graphic>
          <a:graphicData uri="http://schemas.openxmlformats.org/drawingml/2006/table">
            <a:tbl>
              <a:tblPr/>
              <a:tblGrid>
                <a:gridCol w="2438640"/>
                <a:gridCol w="1485720"/>
                <a:gridCol w="1486080"/>
                <a:gridCol w="1485720"/>
                <a:gridCol w="1486080"/>
              </a:tblGrid>
              <a:tr h="95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Dónde está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érica del Nor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é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sur de los EE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 norte de la América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lengua habla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añ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a yucate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huat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¿Qué hay en Méxic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añ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e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457200" y="5257800"/>
            <a:ext cx="8305920" cy="9907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" y="4114800"/>
            <a:ext cx="8305920" cy="12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57200" y="2362320"/>
            <a:ext cx="8305920" cy="1752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gram 5" descr=""/>
          <p:cNvPicPr/>
          <p:nvPr/>
        </p:nvPicPr>
        <p:blipFill>
          <a:blip r:embed="rId1"/>
          <a:stretch/>
        </p:blipFill>
        <p:spPr>
          <a:xfrm>
            <a:off x="133200" y="146160"/>
            <a:ext cx="8864640" cy="6565680"/>
          </a:xfrm>
          <a:prstGeom prst="rect">
            <a:avLst/>
          </a:prstGeom>
          <a:ln w="0">
            <a:noFill/>
          </a:ln>
        </p:spPr>
      </p:pic>
      <p:sp>
        <p:nvSpPr>
          <p:cNvPr id="47" name="Rounded Rectangle 2"/>
          <p:cNvSpPr/>
          <p:nvPr/>
        </p:nvSpPr>
        <p:spPr>
          <a:xfrm>
            <a:off x="457200" y="304812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3"/>
          <p:cNvSpPr/>
          <p:nvPr/>
        </p:nvSpPr>
        <p:spPr>
          <a:xfrm>
            <a:off x="2743200" y="304812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6095880" y="304812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2743200" y="48006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4952880" y="48006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162920" y="4800600"/>
            <a:ext cx="1676160" cy="9144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CIÓN BÁS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5956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upload.wikimedia.org/wikipedia/commons/thumb/7/72/Billetes_mexicanos.jpg/175px-Billetes_mexicanos.jpg"/>
          <p:cNvPicPr/>
          <p:nvPr/>
        </p:nvPicPr>
        <p:blipFill>
          <a:blip r:embed="rId2"/>
          <a:stretch/>
        </p:blipFill>
        <p:spPr>
          <a:xfrm>
            <a:off x="6324480" y="1523880"/>
            <a:ext cx="203544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Bandera de México"/>
          <p:cNvPicPr/>
          <p:nvPr/>
        </p:nvPicPr>
        <p:blipFill>
          <a:blip r:embed="rId3"/>
          <a:stretch/>
        </p:blipFill>
        <p:spPr>
          <a:xfrm>
            <a:off x="5181480" y="4724280"/>
            <a:ext cx="3219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MA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upload.wikimedia.org/wikipedia/commons/2/23/M%C3%A9xico_relieve.png"/>
          <p:cNvPicPr/>
          <p:nvPr/>
        </p:nvPicPr>
        <p:blipFill>
          <a:blip r:embed="rId1"/>
          <a:stretch/>
        </p:blipFill>
        <p:spPr>
          <a:xfrm>
            <a:off x="609480" y="1066680"/>
            <a:ext cx="8039160" cy="5089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419720" y="63244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éxico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Wikiedpia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ccessed 2/15/2011) es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Mariachi no es un simple invento de una sola persona, es el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produc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de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cultur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mestiz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religión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músic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a cual surgió desde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los años 1500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Con la llegada de los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conquistadores español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también vino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religión cristian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junto con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la música religios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la cual produjo una combinación de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doctrina litúrgica con la música nativ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 combinación dio paso al nacimiento de la </a:t>
            </a:r>
            <a:r>
              <a:rPr b="1" lang="es-ES" sz="3200" spc="-1" strike="noStrike">
                <a:solidFill>
                  <a:srgbClr val="984807"/>
                </a:solidFill>
                <a:latin typeface="Calibri"/>
              </a:rPr>
              <a:t>música mestiz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http://www.perlademexico.com/Historia_del_mariachi.ht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ctangle 3" descr=""/>
          <p:cNvPicPr/>
          <p:nvPr/>
        </p:nvPicPr>
        <p:blipFill>
          <a:blip r:embed="rId1"/>
          <a:stretch/>
        </p:blipFill>
        <p:spPr>
          <a:xfrm>
            <a:off x="-66600" y="122400"/>
            <a:ext cx="9191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23:23:38Z</dcterms:created>
  <dc:creator>joann</dc:creator>
  <dc:description/>
  <dc:language>en-US</dc:language>
  <cp:lastModifiedBy>joann</cp:lastModifiedBy>
  <dcterms:modified xsi:type="dcterms:W3CDTF">2011-02-16T23:28:28Z</dcterms:modified>
  <cp:revision>2</cp:revision>
  <dc:subject/>
  <dc:title>¿Qué sabes de México?</dc:title>
</cp:coreProperties>
</file>